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153E-D601-45B0-BE3F-0C8449E0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F0ED-7668-4EA8-8141-330566F9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3215-E233-48E2-8D29-D7D5D805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038B-792C-4A27-B491-68776F99A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5DDA1-5008-4820-86B5-1E5C495E4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ECD71-6559-49F9-B704-114FC8DA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8447F-2751-4D84-BC0B-FF9BE770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0048B-7B13-4BB3-9209-991309FB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EB8BE-21DB-4006-BA3F-60306274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3CC1D-6170-4FE4-A19C-7AA55AB5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D3C15-D563-4F61-8142-EC573589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FA5B-848E-42B4-9436-D189A619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0574F-ADAD-4827-81B1-05FC50B8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B069F-9AA0-452B-823E-911A0F89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A3AFF-E3DF-4AD4-800C-68490A22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0569B-84B8-4D78-883A-D2F88DC5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B81B8-7557-4ABF-80C2-DAB75CA47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131E-82E7-4915-BFC9-2E54EFD4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76BF-8F33-407C-830A-00F6ABF4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3C35-9B81-48A8-A341-69535933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E016-0015-4D71-BE69-0694000A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B472-D5BE-44BA-8F7D-CD4C3E77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7253-2FD3-4999-B377-910115B2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15A2-E4C7-4CBE-AFF5-F55425AB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4E06-7014-455C-8DB4-87683CB3E8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F4DD-44F4-45D7-9C74-0956E4B8B1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Go Tell The Good New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y of 1 &amp; 2 Thessalon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ages 108-11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53720"/>
            <a:ext cx="822636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2 Thessalonians</a:t>
            </a:r>
            <a:br>
              <a:rPr sz="40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2:1-12) </a:t>
            </a: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6800" y="1598760"/>
            <a:ext cx="86835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be disturbed by false teaching regarding the Lord’s second com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:1-1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rd will not return right a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apostasy will come f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se who do not want the truth will be given the opportunity to believe a l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2 Thessalonians</a:t>
            </a:r>
            <a:br>
              <a:rPr sz="40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2:13-17)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salonians were chosen and called by the gos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 admonished the breth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tand firm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d the traditions that they were tau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 prayed that Jesus would comfort their hearts and establish them in every good word and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636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2 Thessalonians</a:t>
            </a:r>
            <a:br>
              <a:rPr sz="40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3:1-18)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6800" y="1598760"/>
            <a:ext cx="868356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 asked for their prayers so..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the word of the Lord will be received fre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they might be delivered from wicked 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l with those who walk disorderly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out of step with the things preached to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not obey the instructions in his first le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not minding their own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use to associate with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636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2 Thessalonians</a:t>
            </a:r>
            <a:br>
              <a:rPr sz="40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3:1-18)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7160" y="1598760"/>
            <a:ext cx="868680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 personally signed his letters in every epistle he wr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1 Thessalonians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6800" y="1598760"/>
            <a:ext cx="868356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recorded epistle written by Pa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ten from Corinth in A.D. 51-5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othy and Silas had joined Pa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for the le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trengthen the faith of the Christian’s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aced severe persecu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assure them of Christ’s retu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ose who died in the Lord are sa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urge some not to neglect daily work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1 Thessalonians</a:t>
            </a:r>
            <a:br>
              <a:rPr sz="40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1:2-10)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6800" y="1599840"/>
            <a:ext cx="868356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, Silas and Timothy thanked God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98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work in the fa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98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labor of l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98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steadfastness of hope in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98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conversion in spite of great affli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d turned from idols to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1 Thessalonians</a:t>
            </a:r>
            <a:br>
              <a:rPr sz="40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2:1-16)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6800" y="1598400"/>
            <a:ext cx="86835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coming to them was not in v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preaching was never of error, or impurity, or dec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9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not seek to please men, but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9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ed day and night not to be a burden to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39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not use flattering words, nor preach for gr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1 Thessalonians</a:t>
            </a:r>
            <a:br>
              <a:rPr sz="40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2:17-3:10)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6800" y="1598400"/>
            <a:ext cx="868356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 was worried that the persecution would make them give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anted to go to them, but Satan stopped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sent Timothy to strengthen and encourage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othy returned with good news about their faith and l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 was comforted by the n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1 Thessalonians</a:t>
            </a:r>
            <a:br>
              <a:rPr sz="40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4:1-18)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6800" y="1598760"/>
            <a:ext cx="86835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ructed on how to walk and please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rsion means a special kind of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tain from sexual immor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cheat your brother in any 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 quietly and take care of your own affa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who have died in Christ are sa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will bring them when Christ retu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ad in Christ will be raised f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1 Thessalonians</a:t>
            </a:r>
            <a:br>
              <a:rPr sz="40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5:1-28)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6800" y="1598760"/>
            <a:ext cx="86835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ime of His coming is unknown (5:1-1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rd will come as a thief in the n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s said, “Peace and Safet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, be warned and be rea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8080" indent="-2383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ch and be so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8080" indent="-2383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lvation is at sta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ructions for the church, and closing remarks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:12-2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400" y="153720"/>
            <a:ext cx="822636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2 Thessalonians</a:t>
            </a:r>
            <a:br>
              <a:rPr sz="40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6800" y="1599840"/>
            <a:ext cx="868356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hort time had elapsed between the first letter and the second le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ed for a second le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larify and correct misunderstandings from the first letter in the minds of the Thessalon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make them aware that false teachers had presented a letter to them in his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400" y="153720"/>
            <a:ext cx="822636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2 Thessalonians</a:t>
            </a:r>
            <a:br>
              <a:rPr sz="40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1:3-12)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6800" y="1598760"/>
            <a:ext cx="868356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comforted in your afflictions; God will ave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ul thanked them for their steadfast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knew their t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8080" indent="-2383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would see that justice was d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 said that they would continue to pray that they would grow in every way, that they would glorify Christ, and that He may glorify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00:42:13Z</dcterms:created>
  <dc:creator>robert marshall</dc:creator>
  <dc:description/>
  <dc:language>en-US</dc:language>
  <cp:lastModifiedBy>Frank D Vines</cp:lastModifiedBy>
  <dcterms:modified xsi:type="dcterms:W3CDTF">2007-03-21T22:57:44Z</dcterms:modified>
  <cp:revision>15</cp:revision>
  <dc:subject/>
  <dc:title>Go Tell The Good News</dc:title>
</cp:coreProperties>
</file>